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FC7-4F0C-476E-9743-60129D09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BBC7-4124-4A00-99B3-C4AD832D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F106-472D-49E5-BB41-D59B42E3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179-7CC4-4BEB-821C-06C748DC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488E-EA7B-4FDA-92AD-587F481F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F21E-708F-425E-ACF1-557CF06C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36E-23E6-4B4F-8140-97CA06FA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F376-B210-42C2-BC3A-88BB78AA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58C0-5AB8-46E7-B418-B962F1D3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2E2E-959E-4E74-9757-22622D00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8B0-E1EB-4265-98F0-BB3C4F4E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0D3D-65F0-4042-A4C3-143990C72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0E6A-2B1A-4088-BE76-EED8C848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D0A-4DB7-4AF4-B986-90FC71C66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7BA-2DD7-4130-97C0-98A97930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C15-DB84-43F4-9158-AE4E2C6A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8C3-0DE0-4A41-8BBE-EC8DEE42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6E5-D1CB-433D-95E3-FAED43EB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1A5-6956-4EE0-ADC5-0B30A9C3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1C8-C83F-4D98-8349-39FF6A3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E1C-3C6D-44E0-8FA0-8E615A6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380-BD5C-442B-802F-37E8842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1E8-B03C-489B-BAC2-C31087E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AA6-F3EC-4DD2-B06F-300BB5B3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D0A-4EE4-4CB7-A7D3-0AD08E6A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6E5-21A2-4913-AA5F-0780E45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05E-021D-4525-B584-32D5674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1FBE-5C54-4E4B-B2E2-13618537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of the fittes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6-01-26T15:25:49Z</dcterms:modified>
  <cp:revision>63</cp:revision>
  <dc:subject/>
  <dc:title>Evolution Quiz</dc:title>
</cp:coreProperties>
</file>